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3B12-7475-4C26-8BCC-110B5B4E62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F2C-01A4-46A0-B639-3DFB8B9F03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6967-C1E3-4A0C-BFDA-09F9CBBC0D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D53-0CC7-4DB1-B887-8933F31981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790-91EE-43EB-9863-B5F05E2D51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9DC-4407-411C-A849-2DE5ACD8E7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878-C499-4DA4-A0EC-3B979037F4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AE3-39FF-4786-AC98-42C782CC31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DB1-7F7B-49C1-834F-041464F5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520-A54C-4E98-8D07-150B78B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8FA-7BD5-4BB6-83A4-C3D8EF49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C15-003F-465D-BE2E-F1CAE3DE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E16-F298-4D4B-BD6B-857B4A26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909-B92E-409A-9120-EF870D3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542-8527-49CF-92DC-F63585A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71D-F485-49B9-A789-E3E480B9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B8A-B689-409F-8B76-2C78F33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7E8-ACFD-44C0-95BB-295277F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AFE-5227-41F1-810A-8FA1C9A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EA0-A38C-4E46-BD9D-C523853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DCA-C961-405C-9C2C-DD254A57E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Jenkins, Mark</cp:lastModifiedBy>
  <dcterms:modified xsi:type="dcterms:W3CDTF">2012-01-03T21:13:56Z</dcterms:modified>
  <cp:revision>17</cp:revision>
  <dc:subject/>
  <dc:title>PowerPoint Presentation</dc:title>
</cp:coreProperties>
</file>